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85480" y="706320"/>
            <a:ext cx="4707000" cy="353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97704F8-CDB4-4FC7-A840-4676AE8C1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3DCD704-C305-4CDC-B22B-5139F9F91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6EB6988-A713-459C-9E24-70238F5E7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77B3CE6-68E4-45E4-8540-0C12744CC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B331266-1EED-459B-98D2-003D35A68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E775672-217F-4D4E-BC63-8C15A832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42813CB-EA25-4766-BA96-8F85CBE72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568-E755-471E-8411-C2672682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34B-433B-4013-86C0-0F70F936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085-5A89-4B6E-AC35-B8FDD37E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7DFD-242F-43EF-9BE4-ADA3BC9C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CE30-D458-49FA-9E0A-8E51750C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842E-AFD0-413A-8F65-04A5E5F6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84AE-D22E-42B1-8CF0-EC63F5DC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B8A5-2302-4E11-BABB-4CB47965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238F-D672-4A83-A28E-9A0DBA36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60F2-0A26-4573-8BA3-540C3D49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E477-CD4E-4A92-B8A7-D0E69FBB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6C2-038E-41E5-87F4-CEE315D8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5012-A4E0-4331-BBDC-989832CC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4C9E-16AB-4974-A487-D3A5B635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FC16-23BC-4BD3-A54D-04BB037D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2128-222D-47B7-9392-C65577D0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F2E9-B0D0-4883-9686-2C142E97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A667-C8C0-4BFA-A02F-BEE2B5FA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5B75-92F8-45FF-9803-62F48ACA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46A86-9510-46D2-80C9-C53DB16A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C9E0-5425-40A0-B395-59E5B761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D8384-EA34-4710-9A22-52341E7B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D36-6894-45FA-8AE9-A2A234F2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A5A47-3E58-47C9-BF02-8EFBD7A7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2D2E-74CB-4C85-A44E-E7CEBDA8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CA07B-DA33-462B-9E35-5744C607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0105-CF18-4C61-8003-8B5CEEC2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7E32-05AD-4CD0-A263-03EEBB73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C03AE-F523-4C81-854D-835DDC84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15667-0F3E-4A1A-8E1D-3AA58831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10B32-F5CF-48EF-AC84-203FFEA7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256EF-4A92-4495-8392-2049511A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0EF95-9CB3-4138-99BE-DEC27214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A1A-F757-4E68-851E-5A558A08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9F3E4-2B25-4DF9-A942-49261C06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D31D4-343F-4F1A-8963-7057A860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0DCB4-D088-4D03-ADA7-7CBC3184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9F223-A635-4FA5-8D89-FA29F41E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D62F5-5F8F-499C-9CFD-1114083A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8CBB0-746A-4E4B-8754-3BF566DF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F2658-FA5C-459F-85A0-548512B0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A5E2E-AC2C-4D28-B471-EF015A68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2DC02-53B4-4F86-9AA4-AFD9CD82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08FBD-150B-4AB0-8469-7C4A0CF5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D5C-18AF-4FC3-BE2B-0E70A283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B4FAA-C369-4CC5-9403-6DA2CF66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2EC44-4DA8-4DFF-AC6A-B0449DD1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7E87D-CDEE-4BD4-8C26-9A5C8034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1F619-3932-4172-8504-A2ACFB68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ECE50-53CF-4726-B057-5C5A3C64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CF730-B519-4016-A1E7-57400DA1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454EA-D057-4A45-A22C-F5C8BCB4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9BF8B-9FBC-4379-9886-213E804D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241C3-A27E-418E-8789-8258F733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19D8D-75F9-4FE0-8C38-64C89675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BD9-4120-4564-885B-34212842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563C1-E20B-4F9E-9BB7-79275544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41240-9232-4BBE-B057-4EF8711B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72EC0-483C-4B80-96B4-68722B23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4121F-38A5-4D77-BF58-8810B281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06A39-3373-48E4-947C-AEF96058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2FFD5-BAD9-43F3-BA81-BFF2B30D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7C68D-2AF9-43A0-A81D-2DF3740D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CFA1D-3D12-49B0-A7EA-BC125D65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DC5D3-7338-4DD8-A2A4-89C45905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74BC4-42A6-4456-8BCD-AB61B360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FB4-9305-49FE-8936-6985CD7E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FAABA-5143-43C2-9248-F348A151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40D2E-7048-433D-A1BA-90AF3677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72260-ECF8-4EA2-A78C-633BD3DE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98E31-D254-4645-8B94-E94FEEDA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4FA19-EA34-4991-AFFD-154A70A7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CF06A-2DCF-4BF1-97C0-6756BD99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999DF-8F7E-48CC-BAB6-29EB8AED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CF9D9-5A93-49BE-9AE9-7D17EFE6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051E7-FD65-4ECF-A524-C4B2F700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94E7F-3593-425A-BDB9-49359111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B15-20FA-48DA-A194-315430CC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CEB71-822E-4BA3-9252-2002567D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274AB-34AE-4456-8189-0828C322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805A0-5FAA-477F-B917-3BC0F950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306E8-DE22-4B52-9AA0-9F5219BC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6975A-F7BC-4811-BF97-DE5394F8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0902A-5F77-4BA5-BE68-D0DA5651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D7F65-2E33-4D41-A203-4387CEE2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4DA87-4D90-497D-AB05-C9E67B9E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10656-7CDA-4F82-BC17-D020062A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6D0DD-B519-4BB4-83C5-F4C4BE94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1CA-45B6-44AF-8208-5D38B77E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F7ACC-C20B-4BB8-8566-58E88EEE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133CC-BCF0-4A91-B9DA-F3B6953E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F3415-D074-4055-81D9-2F3BA859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E49A4-A219-41E3-A6EF-6EC690E2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7DFFC-509B-4B18-99D0-1C6A19A1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9C94C-9D4E-43D6-AEE2-09032A2C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D0E6B-1D6C-4073-ACD9-8F81A9A0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72EA-EB3C-4BBE-8F7B-B0B097E87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52E7-C249-47F4-91DC-35638E62A34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B3D4-0CFB-4A41-878B-93B28997834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1D64-02EE-4C0A-8EE6-66756E67908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7626-F2C1-4082-9131-49A9353D46F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BB53-1161-41FF-A246-9A3C3C1F7D8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3D30-321A-4F5B-BC41-150DD94E849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E536-DFDE-4F25-9ED7-39DD8413192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3880" y="106668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95280" y="41148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nte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efore; in front of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ecede/ anteced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emeridi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ero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ebellu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emorte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6" descr="anteroom.jpg"/>
          <p:cNvPicPr/>
          <p:nvPr/>
        </p:nvPicPr>
        <p:blipFill>
          <a:blip r:embed="rId2"/>
          <a:stretch/>
        </p:blipFill>
        <p:spPr>
          <a:xfrm>
            <a:off x="1219320" y="3276720"/>
            <a:ext cx="3047760" cy="2361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antemeridian.jpg"/>
          <p:cNvPicPr/>
          <p:nvPr/>
        </p:nvPicPr>
        <p:blipFill>
          <a:blip r:embed="rId3"/>
          <a:stretch/>
        </p:blipFill>
        <p:spPr>
          <a:xfrm>
            <a:off x="6172200" y="4191120"/>
            <a:ext cx="2362320" cy="193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qu, Aqua, Aq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a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quariu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qualu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quedu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quamar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quapla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6" name="Picture 6" descr="aqualung.jpg"/>
          <p:cNvPicPr/>
          <p:nvPr/>
        </p:nvPicPr>
        <p:blipFill>
          <a:blip r:embed="rId2"/>
          <a:stretch/>
        </p:blipFill>
        <p:spPr>
          <a:xfrm>
            <a:off x="7162920" y="15228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aquamarine.jpg"/>
          <p:cNvPicPr/>
          <p:nvPr/>
        </p:nvPicPr>
        <p:blipFill>
          <a:blip r:embed="rId3"/>
          <a:stretch/>
        </p:blipFill>
        <p:spPr>
          <a:xfrm>
            <a:off x="7238880" y="3124080"/>
            <a:ext cx="1714680" cy="1524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aquaplane.jpg"/>
          <p:cNvPicPr/>
          <p:nvPr/>
        </p:nvPicPr>
        <p:blipFill>
          <a:blip r:embed="rId4"/>
          <a:stretch/>
        </p:blipFill>
        <p:spPr>
          <a:xfrm>
            <a:off x="1143000" y="4724280"/>
            <a:ext cx="2743200" cy="1695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aquariumm.jpg"/>
          <p:cNvPicPr/>
          <p:nvPr/>
        </p:nvPicPr>
        <p:blipFill>
          <a:blip r:embed="rId5"/>
          <a:stretch/>
        </p:blipFill>
        <p:spPr>
          <a:xfrm>
            <a:off x="2057400" y="27432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aqueduct.jpg"/>
          <p:cNvPicPr/>
          <p:nvPr/>
        </p:nvPicPr>
        <p:blipFill>
          <a:blip r:embed="rId6"/>
          <a:stretch/>
        </p:blipFill>
        <p:spPr>
          <a:xfrm>
            <a:off x="6400800" y="487692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4991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-arium, -ary, -ery, orium, -ory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ce of or for; belonging to or connected with; of the natu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lariu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toriu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ortua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errariu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empora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bra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anatarium (arium= place of or for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avato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via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4" name="Picture 6" descr="solariumm.jpg"/>
          <p:cNvPicPr/>
          <p:nvPr/>
        </p:nvPicPr>
        <p:blipFill>
          <a:blip r:embed="rId2"/>
          <a:stretch/>
        </p:blipFill>
        <p:spPr>
          <a:xfrm>
            <a:off x="457200" y="46483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terrariumm.jpg"/>
          <p:cNvPicPr/>
          <p:nvPr/>
        </p:nvPicPr>
        <p:blipFill>
          <a:blip r:embed="rId3"/>
          <a:stretch/>
        </p:blipFill>
        <p:spPr>
          <a:xfrm>
            <a:off x="7162920" y="502920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terrarium.jpg"/>
          <p:cNvPicPr/>
          <p:nvPr/>
        </p:nvPicPr>
        <p:blipFill>
          <a:blip r:embed="rId4"/>
          <a:stretch/>
        </p:blipFill>
        <p:spPr>
          <a:xfrm>
            <a:off x="7648560" y="2743200"/>
            <a:ext cx="1495440" cy="1600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solarium.jpg"/>
          <p:cNvPicPr/>
          <p:nvPr/>
        </p:nvPicPr>
        <p:blipFill>
          <a:blip r:embed="rId5"/>
          <a:stretch/>
        </p:blipFill>
        <p:spPr>
          <a:xfrm>
            <a:off x="3200400" y="5486400"/>
            <a:ext cx="1638360" cy="13716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library.jpg"/>
          <p:cNvPicPr/>
          <p:nvPr/>
        </p:nvPicPr>
        <p:blipFill>
          <a:blip r:embed="rId6"/>
          <a:stretch/>
        </p:blipFill>
        <p:spPr>
          <a:xfrm>
            <a:off x="2819520" y="342900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lavatory.jpg"/>
          <p:cNvPicPr/>
          <p:nvPr/>
        </p:nvPicPr>
        <p:blipFill>
          <a:blip r:embed="rId7"/>
          <a:stretch/>
        </p:blipFill>
        <p:spPr>
          <a:xfrm>
            <a:off x="3733920" y="1066680"/>
            <a:ext cx="1238040" cy="885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aviary.jpg"/>
          <p:cNvPicPr/>
          <p:nvPr/>
        </p:nvPicPr>
        <p:blipFill>
          <a:blip r:embed="rId8"/>
          <a:stretch/>
        </p:blipFill>
        <p:spPr>
          <a:xfrm>
            <a:off x="7543800" y="91440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ster, Astr, Astr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tar(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teroi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tr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trolo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tronau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tronom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terisk *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4" name="Picture 7" descr="astrology.jpg"/>
          <p:cNvPicPr/>
          <p:nvPr/>
        </p:nvPicPr>
        <p:blipFill>
          <a:blip r:embed="rId2"/>
          <a:stretch/>
        </p:blipFill>
        <p:spPr>
          <a:xfrm>
            <a:off x="7467480" y="5105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asteroid.jpg"/>
          <p:cNvPicPr/>
          <p:nvPr/>
        </p:nvPicPr>
        <p:blipFill>
          <a:blip r:embed="rId3"/>
          <a:stretch/>
        </p:blipFill>
        <p:spPr>
          <a:xfrm>
            <a:off x="3581280" y="4800600"/>
            <a:ext cx="1981440" cy="1905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astronaut.jpg"/>
          <p:cNvPicPr/>
          <p:nvPr/>
        </p:nvPicPr>
        <p:blipFill>
          <a:blip r:embed="rId4"/>
          <a:stretch/>
        </p:blipFill>
        <p:spPr>
          <a:xfrm>
            <a:off x="990720" y="2514600"/>
            <a:ext cx="1809720" cy="1523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astronomy.jpg"/>
          <p:cNvPicPr/>
          <p:nvPr/>
        </p:nvPicPr>
        <p:blipFill>
          <a:blip r:embed="rId5"/>
          <a:stretch/>
        </p:blipFill>
        <p:spPr>
          <a:xfrm>
            <a:off x="7391520" y="152280"/>
            <a:ext cx="1562040" cy="190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stars.jpg"/>
          <p:cNvPicPr/>
          <p:nvPr/>
        </p:nvPicPr>
        <p:blipFill>
          <a:blip r:embed="rId6"/>
          <a:stretch/>
        </p:blipFill>
        <p:spPr>
          <a:xfrm>
            <a:off x="228600" y="4724280"/>
            <a:ext cx="1905120" cy="1791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starss.jpg"/>
          <p:cNvPicPr/>
          <p:nvPr/>
        </p:nvPicPr>
        <p:blipFill>
          <a:blip r:embed="rId7"/>
          <a:stretch/>
        </p:blipFill>
        <p:spPr>
          <a:xfrm>
            <a:off x="3200400" y="2438280"/>
            <a:ext cx="170496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ud-, Audio-, Audit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040" y="1600200"/>
            <a:ext cx="3814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 hea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190760" y="1599840"/>
            <a:ext cx="3733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ble (di= day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en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ovisual (visu= to see; to look; viewing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toriu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3" name="Picture 6" descr="audiometer.jpg"/>
          <p:cNvPicPr/>
          <p:nvPr/>
        </p:nvPicPr>
        <p:blipFill>
          <a:blip r:embed="rId2"/>
          <a:stretch/>
        </p:blipFill>
        <p:spPr>
          <a:xfrm>
            <a:off x="6629400" y="281952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audience.jpg"/>
          <p:cNvPicPr/>
          <p:nvPr/>
        </p:nvPicPr>
        <p:blipFill>
          <a:blip r:embed="rId3"/>
          <a:stretch/>
        </p:blipFill>
        <p:spPr>
          <a:xfrm>
            <a:off x="2743200" y="5029200"/>
            <a:ext cx="2819520" cy="1638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auditorium.jpg"/>
          <p:cNvPicPr/>
          <p:nvPr/>
        </p:nvPicPr>
        <p:blipFill>
          <a:blip r:embed="rId4"/>
          <a:stretch/>
        </p:blipFill>
        <p:spPr>
          <a:xfrm>
            <a:off x="7238880" y="304920"/>
            <a:ext cx="1609920" cy="174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9-14T19:47:53Z</dcterms:modified>
  <cp:revision>19</cp:revision>
  <dc:subject/>
  <dc:title>Roots List #1</dc:title>
</cp:coreProperties>
</file>